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0B6-5C89-4864-9818-62CD279E67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nchronriemen arbeiten nach dem Prinzip der formschlüssigen Kraftübertragung und benötigen daher keine große Vorspann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unnötig hohe Vorspannung vermindert die Lebensdauer des Antriebes, erhöht die Lagerbelastung, den Verschleiß der Zähne und begünstigt Laufgeräus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zu geringe Straffung kann dazu führen, daß die Riemenzähne nicht einwandfrei in die Scheibenverzahnung eingreifen und bei hoher       Belastung sogar übersprin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nchronriemen muss gespannt sein, damit er nicht überspringt sobald er sich Ausdehnt durch Wärme u.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ssiert dieses besteht nicht mehr die Möglichkeit einer Synchronitä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Riemen würden anfangen zu gleiten bei Überbeanspruc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üflastme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- Handmeßgerät TRU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kW / 3.000U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enabstand ist in vielen Fällen vorge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Sinnvolle Grenzwerte sind einzuh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bei Synchronscheiben sind die Bordscheiben maßge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i zu große Abstände können Schwingungen ent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r Riemenzähnezahlen nach Hersteller Angab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B 16-19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= Spann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Y= Auflege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 sich im eingriff befindlichen Zäh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rund unvermeidlicher Teilungsfehler können max. nur 12 Zähne als tragend angesehen werden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her wir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uf ganze Zahlen abru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spez.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Nach TB 16-20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tragende Kraft ist abhängig von Umwelteinflüsse, Ölig, Warm, Kalt us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ung + Fliehkräfte im Betrieb = weniger Belastung auf den Wellen bzw. Lag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exakte Berechnung der Wellenbelastung ist für den praktischen Anwendungsfall somit kaum 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Errechneten We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trieb im allg. oder über Dimensioniert (Keil oder Synchronriem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teigt die Errechnete Riemenzugkraft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die max.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z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Werte nicht, so muss wieder von Vorne des Ablaufplans begonn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l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ände müssen berücksichtigt werde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federt / nicht Gefed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nrolle Feder belastet Ja / N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ra Ansprechen wegen Ihrem Zahnriemenriss beim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kurvenförmige HTD® (High Torque Drive) Verzahnung verbessert die innere Spannungsverteilung erheblich und ermöglicht eine höhere Übertragungsleistung und eine längere Lebensdauer verglichen mit den klassischen Trapezsynchronrie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8FE-25E0-491A-A159-FFBF0DF0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AA2-BEFB-4AE1-859A-65402619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1F9-0B95-4AF0-ACFB-CFD7A1A7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541-F512-4189-9ABC-7113DC7C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986-2D6F-4E46-A7F8-31DABBF2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8ED5-4184-4BE7-BF24-F8DA2EE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2035-840C-4156-87AB-215E4D11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A80-8C87-4E41-A191-B724E5C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0F48-C2E8-4468-A439-E13D7943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072F-7B97-4A5E-800E-F2175F97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21F-36BF-4762-860D-1912109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A65-8F4C-4CEC-9CF0-9E53600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7D75-5C82-45F3-A0DF-D14AC62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0585-6E41-4B9F-AABE-D7FADA3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303-E050-47FF-BDA3-878EB7A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74E8-CA03-4C73-ADC1-E47896EF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D2E1-C913-464B-ABCD-526241B8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3C1-53F3-4758-A38C-90FED3A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701-C127-41B2-9B6B-779501BB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FDF-AD65-44C0-BF1D-2033AE3E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4A5-4B24-44D1-B549-BAEA4B30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FF0-C9E2-4C39-B42C-D68A761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532-0730-4941-B9AF-E07741C2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278-FF15-4210-843B-B97C90E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E772-B693-4660-BE3D-2B1A58A7C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06D-0AEE-4FF5-9A4F-93D160F5C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tlantadrives.com/" TargetMode="External"/><Relationship Id="rId3" Type="http://schemas.openxmlformats.org/officeDocument/2006/relationships/hyperlink" Target="http://www.bs-wiki.de/mediawiki/index.php/Riementriebe_formschl&#252;ssig" TargetMode="External"/><Relationship Id="rId4" Type="http://schemas.openxmlformats.org/officeDocument/2006/relationships/hyperlink" Target="http://www.bs-wiki.de/mediawiki/index.php/Riementriebe" TargetMode="External"/><Relationship Id="rId5" Type="http://schemas.openxmlformats.org/officeDocument/2006/relationships/hyperlink" Target="http://www.bs-wiki.de/mediawiki/index.php/Zahnriemen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Formschlüssige Riementrieb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5897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wicklung und Konstruk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exander Bold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608200" y="2940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753080" cy="28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Bauformen von Synchronriem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403848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 einfacher Synchronriementrieb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= 1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 einfacher Synchronriementrie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≠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381480" cy="23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CDD-A195-4CBD-AACB-0AE6183094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Aufbau der Synchronriemenscheib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3106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rkstoff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sseisen, Stahlguss, Stahl, Aluminiumlegierungen oder Kunststoff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Bordscheiben sind in der Regel aus verzinktem Stah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Auswahl des Werkstoffes ist abhängig von den Einsatzbedingunge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08D-9AF2-496F-8120-30FD87D98C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Riemenspann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138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in Synchronriemen benötigt keine hohe Vorspannu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Vorspannung kann über die Verstellung des Achsabstandes eingestel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über eine Spannrol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mit dem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messgerät TRUMME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850840" cy="21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960720" cy="1879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356000" y="3500280"/>
            <a:ext cx="15955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D44-B2AB-46B2-8F12-638D05E811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Flach- und Keilriemen (kraftschlüssig)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136000" cy="429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9440" y="414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9440" y="465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944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28D-314C-4A7D-B766-41ED7893D3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Zahnrad- und Kett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064720" cy="435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08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3080" y="47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944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ADC-3A09-484B-84D1-A4ACBA4ADF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56000" y="-360"/>
            <a:ext cx="478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27f4c"/>
                </a:solidFill>
                <a:latin typeface="Tahoma"/>
              </a:rPr>
              <a:t>Antriebs Wahl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91120" cy="6381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06028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auf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 S.5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 S.2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77D-0940-4AD7-84E3-ACFA63427E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ung des Riemenprofils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275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TB 16-1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1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03760" y="1268280"/>
            <a:ext cx="35910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704-4C0B-44AD-B50F-4FC2BA1B4F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r Scheibenzähnezah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42920" y="4076640"/>
                <a:ext cx="2592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91652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936-B864-4DD9-99CC-EA4DEF94FB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s vorläuf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´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–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547640" y="5445000"/>
                <a:ext cx="5834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62888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81A-B163-437B-9E29-F1B42DC335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Tahoma"/>
              </a:rPr>
              <a:t>Ermittlung der Riemenzähnezahl,  Riemenlänge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4535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dk; ddg; Ld´; zr´; Ld;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 – 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09-2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TB 16-19d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98816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978-015D-4488-9DA6-07C278FF72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Inhaltsverzeichni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ktion und Wirk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staltungsgrundsät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uar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gleich zu anderen Antrieb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rechn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D04-C199-4458-96F6-A5A918955B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s endgült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; x;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0-2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0380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F54-5560-4878-B691-643BCB7C25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r erforderlichen Riemenbreite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89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; Psp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 TB 16-20-b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–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601-603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388040" y="4941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= Riemenbr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ECD-E096-4245-A55D-112081AA23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827f4c"/>
                </a:solidFill>
                <a:latin typeface="Tahoma"/>
              </a:rPr>
              <a:t>Kontrolle von:  v, fB, Ft, Fw0</a:t>
            </a:r>
            <a:r>
              <a:rPr b="0" lang="de-DE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683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1-2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880600" y="3933720"/>
            <a:ext cx="2408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= Riemengeschwindigk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B= Biegefreque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t= Umfangsk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w0= Überschläg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ellenbelas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AAA-B807-4EB5-8B35-A131A25DB4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Werte zulässig?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Bsp.: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 Synchronriemen 10-T5-5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ynchronriemen 10-T5-55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b=10 mm Breite, T5 Riemenprofil mit p = 5 mm Teilung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990 mm Richtlänge Ld = Bestellläng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b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2A0-2453-468A-9886-6A3E6BA09D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Quell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Lehrbuch und Tabellenbuch; Vieweg Verlag, 19. Auflage, 2009, ISBN 978-3-8348-0689-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Formelsammlung; Vieweg Verlag, 9. Auflage, 2008, ISBN 978-3-8348-0534-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abellenbuch Metall; Europa Lehrmittel Verlag, 44. Auflage, 2008, ISBN 978-3-8085-1724-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2"/>
              </a:rPr>
              <a:t>http://www.atlantadrive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3"/>
              </a:rPr>
              <a:t>http://www.bs-wiki.de/mediawiki/index.php/Riementriebe_formschl%C3%BCssi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4"/>
              </a:rPr>
              <a:t>http://www.bs-wiki.de/mediawiki/index.php/Riementrieb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5"/>
              </a:rPr>
              <a:t>http://www.bs-wiki.de/mediawiki/index.php/Zahnriem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3BF-712E-4DF8-9BED-D9730E7DF7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Einleit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chlüssige Riementriebe, besser bekannt al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hn- bzw. Synchronriementrieb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egegnet man häufig im Beruf und im Alltag bei Werkzeugmaschinen, Autos, Fahrräde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iehe dazu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Red Al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w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unterschiedliche Bauarten und Größ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erbeanspruchung kann zu schwerwiegenden Folgen führ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p.: Zahnriemenriss beim Verbrennungsmo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7E1-CC7F-479C-8928-5347C699D5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Ziele: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s versteht man unter formschlüssigen Riementrieb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orteile / Nachte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wendung / Einsatzgebiet für den Synchronriem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hl des richtigen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Auswah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erechn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ensionierung des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08A-7343-4B89-A834-98E050D293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Besonderheit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 Synchrone Üb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hezu wartungsfre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chlüssige Drehmomentübertra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riementriebe finden Verwendu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Feinwerkantrieben, Haushaltsmaschinen,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kzeugmaschinen, Textilmaschinen oder schw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umaschi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00B-04C1-414F-B690-9309EA85FB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werkstoff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gelemente aus Stahl oder Glasfas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iemenkörper aus Gumm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.B. Neopren oder Elastom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in Riemenkörper eingebund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zum dauerhaften Schutz von Polyamidgewebe umschlos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528-117C-483C-ACF7-7E2E3D5804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644832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199-143A-40F6-9BDE-6AB93277DC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Spannungsverteilung im Synchronriem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280" y="429228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) Trapez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) Halbrundprofil- (HTD) 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968720" cy="20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623-A8C9-4FD5-84DC-26C06BD58F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br>
              <a:rPr sz="4400"/>
            </a:br>
            <a:r>
              <a:rPr b="1" lang="en-US" sz="3600" spc="-1" strike="noStrike">
                <a:solidFill>
                  <a:srgbClr val="0a29c4"/>
                </a:solidFill>
                <a:latin typeface="Tahoma"/>
              </a:rPr>
              <a:t>Metrische T-Zahnriemen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67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- Zah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 T5 / T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mm /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sp.: 10-T5-5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änge: 55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: 5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ite: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5184720" cy="15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143-698A-4083-810C-3E4A43C740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9:06:45Z</dcterms:created>
  <dc:creator>Boldt</dc:creator>
  <dc:description/>
  <dc:language>en-US</dc:language>
  <cp:lastModifiedBy>Boldt</cp:lastModifiedBy>
  <dcterms:modified xsi:type="dcterms:W3CDTF">2010-11-26T13:58:41Z</dcterms:modified>
  <cp:revision>182</cp:revision>
  <dc:subject/>
  <dc:title>Formschlüssige Riementriebe</dc:title>
</cp:coreProperties>
</file>